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B947-025D-46E2-868B-FE3B356F8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5BBD-C16B-4414-8BFA-721CCA0E54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BC3E-F779-40DC-93D6-D50A0840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C7D-7EEE-4784-833D-F2884529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D83-503E-4DF5-AEE1-885A21CE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BA31-7106-4E1F-8661-7A984075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7B55-413D-4ABC-AD57-88CEFCC6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74F-E292-44DA-AFE5-DA40969F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4B5-A2E9-4A29-94FA-B0983DD7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809-8997-4C68-9FF5-D97E3526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A2D-5116-4233-84BA-A79CF125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837E-CA42-4892-A886-8537D5A5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205-9B7F-4A33-ACCD-880F0989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0644-C215-4769-9D71-77356AF8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9BB1-29E6-408C-9FD3-8C0BD60037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Femininity in the Patriarchal Discourse: </a:t>
            </a:r>
            <a:r>
              <a:rPr b="0" i="1" lang="en-US" sz="4400" spc="-1" strike="noStrike">
                <a:solidFill>
                  <a:srgbClr val="ffffff"/>
                </a:solidFill>
                <a:latin typeface="Monotype Corsiva"/>
              </a:rPr>
              <a:t>Hamlet’s </a:t>
            </a: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Ophelia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1599840"/>
            <a:ext cx="640548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egan Bann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ydney Mo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yler Se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on Yu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ark Wunder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Femininity Through Fluidit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ter is the ultimate material associated with cleansing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rification, ablution, baptism in Christia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nerally, a body is washed and dressed before burial - it’s an important aspect of charitable care for the departed.  By means of drowning, Ophelia is seemingly neglected by the family, washes herself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xual, emotional clean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5" descr="http://www.english.emory.edu/classes/Shakespeare_Illustrated/Delacroix.Ophelia.jpg"/>
          <p:cNvPicPr/>
          <p:nvPr/>
        </p:nvPicPr>
        <p:blipFill>
          <a:blip r:embed="rId1"/>
          <a:stretch/>
        </p:blipFill>
        <p:spPr>
          <a:xfrm>
            <a:off x="4952880" y="18288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Femininity Through Fluidit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114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eminine fluidity contrasts masculine arid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lements of water associated with the woman: tears, blood, mil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ater - an essential element of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ertes contrasts Ophelia’s response to Polonius’ death; Ophelia drowns, Laertes fights. Act 4. Sc. 7 “Too much of water hast though, poor Ophelia, And therefore I forbid my tears.” Act 4. Sc. 5 “I cannot choose but weep to think they would lay him I’ th’ cold ground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800600" y="10666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http://i268.photobucket.com/albums/jj25/lugarcia_2007/tears.jpg"/>
          <p:cNvPicPr/>
          <p:nvPr/>
        </p:nvPicPr>
        <p:blipFill>
          <a:blip r:embed="rId2"/>
          <a:stretch/>
        </p:blipFill>
        <p:spPr>
          <a:xfrm>
            <a:off x="6324480" y="3429000"/>
            <a:ext cx="251172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Femininity Through Fluidit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4422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owning is considered a very feminine way of dy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which is a beautiful immersion and submersion in the female element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 4. Sc. 7 “And one incapable of her own distress Or like a creature native and endued Unto that element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4343400" cy="3233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Femininity Through Fluidit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040" y="449568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helia differs from other famous women of the water (Venus rises from the sea at her birth, Ophelia ends and stays in the se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ever receives a dignified death; by drowning, her ashes won’t mix with those noble men; being a woman, she is insignificant.  Even when she is to be properly buried, Act. 5, Sc. 1, “Is she to be buried in Christian burial, when she willfully seeks her own sal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4" descr="http://1.bp.blogspot.com/_v325hwjmyy4/SnzR9H02grI/AAAAAAAAAVo/BWXXgCz3sMM/S1600-R/Ophelia2(small).jpg"/>
          <p:cNvPicPr/>
          <p:nvPr/>
        </p:nvPicPr>
        <p:blipFill>
          <a:blip r:embed="rId1"/>
          <a:stretch/>
        </p:blipFill>
        <p:spPr>
          <a:xfrm>
            <a:off x="2209680" y="990720"/>
            <a:ext cx="4953240" cy="347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152640" y="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Symbolic Deflowering”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lizabethans would have recognized the flow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at Ophelia clutched to when she drowned as phall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ymbols, indicative of her repressed long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eminine madness with the adornment of wil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lowers portrayed “symbolic defloweri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osemary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was given as a token of rememb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tween lo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ansie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represented erotic though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ennel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symbolized not only flattery but als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ckleness in love and even women’s sexu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lumbin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symbol of adult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91320" y="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91320" y="2362320"/>
            <a:ext cx="3047760" cy="2209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1320" y="4646520"/>
            <a:ext cx="3124080" cy="198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4575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Symbolic Deflowering”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791320" y="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715000" y="23623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791320" y="4646520"/>
            <a:ext cx="3124080" cy="1982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9480" y="1143000"/>
            <a:ext cx="4800600" cy="69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u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sorrow/repentance but was even thought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ate carnal l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ais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self sacrifice for love/dissembling l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se garlands that she drowns 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present the conflicting feelings (innocence, pain, and sexuality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at caused her to need an escape from her oppressive lifesty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flowers suggest a contradiction of female sexuality as both “innocent blossoming and whorish contamination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Madness as Sexual Exces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066680"/>
            <a:ext cx="5410440" cy="75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onor and virginity were the basis for a woman’s value in a patriarchal socie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y feminist critics have suggested that Ophelia's madness is directly related to her sexual natu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n went mad for reasons like mental or physical st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men’s madness was associated with their bodies and erotic desi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ctors believed that the cause of hysteria in women was lack of sex/social helpless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 some critics reason that Ophelia’s death was caused by Polonius who prevented her from marrying Ham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he was then unable to fulfill her natural role as wife/sexual being and her suicide was “imminent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638680" y="1143000"/>
            <a:ext cx="3144960" cy="507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ct 3, Scene 2- When Hamlet tw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helia’s words/degrades her with a sexual innue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Ophelia: </a:t>
            </a:r>
            <a:r>
              <a:rPr b="0" i="1" lang="en-US" sz="1400" spc="-1" strike="noStrike">
                <a:solidFill>
                  <a:srgbClr val="ffffff"/>
                </a:solidFill>
                <a:latin typeface="Garamond"/>
              </a:rPr>
              <a:t>“I think nothing, my lord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Hamlet:</a:t>
            </a:r>
            <a:r>
              <a:rPr b="0" i="1" lang="en-US" sz="1400" spc="-1" strike="noStrike">
                <a:solidFill>
                  <a:srgbClr val="ffffff"/>
                </a:solidFill>
                <a:latin typeface="Garamond"/>
              </a:rPr>
              <a:t> “That’s a fair thought to lie between a maid’s legs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Ophelia:</a:t>
            </a:r>
            <a:r>
              <a:rPr b="0" i="1" lang="en-US" sz="1400" spc="-1" strike="noStrike">
                <a:solidFill>
                  <a:srgbClr val="ffffff"/>
                </a:solidFill>
                <a:latin typeface="Garamond"/>
              </a:rPr>
              <a:t> “What is, my lord?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Hamlet:</a:t>
            </a:r>
            <a:r>
              <a:rPr b="0" i="1" lang="en-US" sz="1400" spc="-1" strike="noStrike">
                <a:solidFill>
                  <a:srgbClr val="ffffff"/>
                </a:solidFill>
                <a:latin typeface="Garamond"/>
              </a:rPr>
              <a:t> “Nothing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Ophelia:</a:t>
            </a:r>
            <a:r>
              <a:rPr b="0" i="1" lang="en-US" sz="1400" spc="-1" strike="noStrike">
                <a:solidFill>
                  <a:srgbClr val="ffffff"/>
                </a:solidFill>
                <a:latin typeface="Garamond"/>
              </a:rPr>
              <a:t> “You are merry, my lord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ct 4, Scene 5- Ophelia’s gone mad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Gentleman insists her speech doesn’t ma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Gentleman: </a:t>
            </a:r>
            <a:r>
              <a:rPr b="0" i="1" lang="en-US" sz="1400" spc="-1" strike="noStrike">
                <a:solidFill>
                  <a:srgbClr val="ffffff"/>
                </a:solidFill>
                <a:latin typeface="Garamond"/>
              </a:rPr>
              <a:t>“Her speech is nothing /Yet the unshap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aramond"/>
              </a:rPr>
              <a:t>Use of it doth move the hearers to collection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helia’s thoughts mean nothing in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ublic terms defined by the cou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he’s deprived of thought, sexuality, and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en she drowns, Ophelia wears virginal white (l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f color) which contrasts with Hamlet’s “suits of solemn black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itics refer to her story as the Story of Zero or “mystery of feminine differenc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A Creature of Lack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72200" y="1066680"/>
            <a:ext cx="2620800" cy="4019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Women in England during Shakespeare’s Time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ad very limited rights: they were deni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rmal education and the chance to hold pub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ffice or other professions such as law, medicin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hildbearing was considered a great hon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idered a threat to the publ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mon belief that women always needed someone to look after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o woman could vo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lthough denied a formal educatio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ny women of this time period were highl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ducated due to the use of private tuto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ngle women often accused of being witches/looked upon with suspi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 unmarried women could inherit property and sign contra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omen were encouraged to write literature, mainly religiou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988920" y="17506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3241800" cy="5410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791320" y="1371600"/>
            <a:ext cx="2765160" cy="3429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Double Stand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914400"/>
            <a:ext cx="8076960" cy="64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amlet ‘s past can be read through his father, his education, and his relationship with his frie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ent feminist critics see the lack of Ophelia’s pa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 representative of a double stand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e can imagine Hamlet’s story with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helia, but Ophelia literally has no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out Hamlet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Act 1 Scene 3, Polonius sends Laertes off urg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m to use his judgment and learn through 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ut he does not put that trust in Ophelia’s convic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f Hamlet’s l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olonius to Opheli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Affection, puh!  You speak like a gre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girl…think yourself a baby That you have ta’en the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tenders for true pay, which are not sterling…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helia was never given the chance to develop an independent consc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“…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tifled is she by the authority of the male world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Femininity Through Insanit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ereas madness for Hamlet is metaphysical, linked with culture, for Ophelia it is a product of the female body and female nature, perhaps that nature’s purest form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helia dresses in white, decks herself with “fantastical garlands” of wild flowers and enters “distracted,” playing a lute, with her hair down, sing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emininity is displayed through apparent absent-minded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2847960" cy="4647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Femininity Through Insanit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4956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peech marked by extravagant metaphors, lyrical free associations and “explosive sexual imagery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Ophelia: “You sing ‘A-down a-down’– and you ‘Call him a down-a.’ O, how the wheel becomes it! It is the false steward that stole his master’s daughter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Laertes: “This nothing’s more than matter.”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21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ertes is saying that this nonsense speaks more eloquently than serious spe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eminine = eloquent, yet incoher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http://www.thehamletenigma.com/TheHamletEnigma/images/William_Gorman_Wills-Ophelia_and_Laertes.jpg"/>
          <p:cNvPicPr/>
          <p:nvPr/>
        </p:nvPicPr>
        <p:blipFill>
          <a:blip r:embed="rId1"/>
          <a:stretch/>
        </p:blipFill>
        <p:spPr>
          <a:xfrm>
            <a:off x="5715000" y="914400"/>
            <a:ext cx="236376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Femininity Through Insanit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timistically, Ophelia’s madness offers the capability of speech, the opportunity to discover individual identity, and the power to verbally undermine authority. A thorough analysis of Ophelia’s mad ramblings (and their mutual levels of meaning) provides “a singular exposé of society, of the turbulent reality beneath its surface veneer of calm” (418); but her words still suggest a fragmented self and provide others the opportunity to manipulate meanings that best suit them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33072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Femininity Through Insanit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helia initially appears “shaped to conform to external demands, to reflect others desires” (406): she is Laertes’ “angel,” Polonius’ “commodity” (407), and Hamlet’s “spectre of his psychic fears” (410). While the conflicting messages from these male/masculine sources damage Ophelia’s psychological identity, their sudden absence provokes her mental destru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helia is objectified by the other characters in the play, becomes a more of a possession than a charac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refore, mental deterioration is equated with individual identity in a wom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http://www.facebook.com/profile/pic.php?oid=AAAAAQAQ0ln1MBz3xJN6E9o-gkUO1AAAAAosEIq9vGxSji0W7ZAKmoIy"/>
          <p:cNvPicPr/>
          <p:nvPr/>
        </p:nvPicPr>
        <p:blipFill>
          <a:blip r:embed="rId1"/>
          <a:stretch/>
        </p:blipFill>
        <p:spPr>
          <a:xfrm>
            <a:off x="4952880" y="1219320"/>
            <a:ext cx="3353040" cy="4794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division of space between Ophelia and the natural details Millais had so painstakingly pursued reduces her to one more visual object; and the painting had such a hard surface, strangely flattened perspective, and brilliant light that it seems cruelly indifferent to the woman’s death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Millais_-_Ophelia_%28detail%29"/>
          <p:cNvPicPr/>
          <p:nvPr/>
        </p:nvPicPr>
        <p:blipFill>
          <a:blip r:embed="rId1"/>
          <a:stretch/>
        </p:blipFill>
        <p:spPr>
          <a:xfrm>
            <a:off x="380880" y="0"/>
            <a:ext cx="4111920" cy="5486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267080" cy="299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181480" y="3124080"/>
            <a:ext cx="3353040" cy="247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Femininity Through Fluidit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 we all know, Ophelia kills herself by drow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nk between Ophelia’s death and the death of Katherine Ham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ccidental - Act 4. Sc. 7, “Clamb’ring to hang, an envious sliver broke, When down her weedy trophies and herself fell in the weeping brook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rely an afterthought, “One woe doth thread upon another’s heel, So fast they follow.  Your sister’s drowned, Laertes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scious - Act 5. Sc. 1, “If I drown myself wittingly…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http://www.myartprints.com/kunst/paul_albert_steck/ophelia_drowning_hi.jpg"/>
          <p:cNvPicPr/>
          <p:nvPr/>
        </p:nvPicPr>
        <p:blipFill>
          <a:blip r:embed="rId1"/>
          <a:stretch/>
        </p:blipFill>
        <p:spPr>
          <a:xfrm>
            <a:off x="5334120" y="1143000"/>
            <a:ext cx="305424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2:23:23Z</dcterms:created>
  <dc:creator> Me, Myself, and I</dc:creator>
  <dc:description/>
  <dc:language>en-US</dc:language>
  <cp:lastModifiedBy>HP Authorized Customer</cp:lastModifiedBy>
  <dcterms:modified xsi:type="dcterms:W3CDTF">2010-03-22T03:37:40Z</dcterms:modified>
  <cp:revision>83</cp:revision>
  <dc:subject/>
  <dc:title>Femininity in the Patriarchal Discourse: Hamlet’s Ophelia</dc:title>
</cp:coreProperties>
</file>